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F7C2-EDED-4D67-B786-CAB6D96DD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7616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0448-C91A-4A0B-B883-EBF85AB03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682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6C65-72D4-4C8D-89E2-263DA5EB6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4676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1700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7616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4676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1700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47DC-D183-47B7-9DF6-F34094D262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471F-ECB8-4E1C-BC58-FCF571EC8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595D-2629-4221-A784-9363059AE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691A-B929-4C4E-8979-B9AB9BCB5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8F20-6B0E-4C49-AF49-5AD422DA9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1F78-114B-455E-B7C3-4224EBC34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7616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EF81-49E6-4EF2-B8AD-8E003A974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682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C97F-0824-49B0-A2A5-12921B81F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0910-71E8-4D12-8704-A1019503C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F6CE-8995-4A8B-AC84-4DD7ECADE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015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drapeaux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6229440"/>
            <a:ext cx="1676520" cy="1077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" name="drapeaux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0" y="-406440"/>
            <a:ext cx="1676520" cy="1077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" name="drapeaux" descr=""/>
          <p:cNvPicPr/>
          <p:nvPr/>
        </p:nvPicPr>
        <p:blipFill>
          <a:blip r:embed="rId4"/>
          <a:stretch/>
        </p:blipFill>
        <p:spPr>
          <a:xfrm>
            <a:off x="0" y="2908440"/>
            <a:ext cx="1676520" cy="1077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" name="drapeaux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0" y="4013280"/>
            <a:ext cx="1676520" cy="1077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" name="drapeaux" descr=""/>
          <p:cNvPicPr/>
          <p:nvPr/>
        </p:nvPicPr>
        <p:blipFill>
          <a:blip r:embed="rId6">
            <a:lum bright="24000"/>
          </a:blip>
          <a:stretch/>
        </p:blipFill>
        <p:spPr>
          <a:xfrm>
            <a:off x="0" y="5119560"/>
            <a:ext cx="1676520" cy="1078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" name="drapeaux" descr=""/>
          <p:cNvPicPr/>
          <p:nvPr/>
        </p:nvPicPr>
        <p:blipFill>
          <a:blip r:embed="rId7">
            <a:lum bright="24000"/>
          </a:blip>
          <a:stretch/>
        </p:blipFill>
        <p:spPr>
          <a:xfrm>
            <a:off x="0" y="1803240"/>
            <a:ext cx="1676520" cy="1078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" name="drapeaux" descr=""/>
          <p:cNvPicPr/>
          <p:nvPr/>
        </p:nvPicPr>
        <p:blipFill>
          <a:blip r:embed="rId8">
            <a:lum bright="24000"/>
          </a:blip>
          <a:stretch/>
        </p:blipFill>
        <p:spPr>
          <a:xfrm>
            <a:off x="0" y="698400"/>
            <a:ext cx="1676520" cy="1077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rapeaux" descr=""/>
          <p:cNvPicPr/>
          <p:nvPr/>
        </p:nvPicPr>
        <p:blipFill>
          <a:blip r:embed="rId1"/>
          <a:srcRect l="7143" t="0" r="7143" b="0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2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5400" spc="-1" strike="noStrike">
                <a:solidFill>
                  <a:srgbClr val="000000"/>
                </a:solidFill>
                <a:latin typeface="Arial"/>
              </a:rPr>
              <a:t>Las revueltas populares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i="1" lang="fr-BE" sz="5400" spc="-1" strike="noStrike">
                <a:solidFill>
                  <a:srgbClr val="000000"/>
                </a:solidFill>
                <a:latin typeface="Arial"/>
              </a:rPr>
              <a:t>en Argent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410080" y="6019560"/>
            <a:ext cx="3353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Gerday Cécile 2 L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Tessier Perrine 2 L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volución del paro en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1600200"/>
          <a:ext cx="6629400" cy="49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00200"/>
                    <a:ext cx="662940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4" name=""/>
          <p:cNvGrpSpPr/>
          <p:nvPr/>
        </p:nvGrpSpPr>
        <p:grpSpPr>
          <a:xfrm>
            <a:off x="0" y="990720"/>
            <a:ext cx="1752480" cy="4838400"/>
            <a:chOff x="0" y="990720"/>
            <a:chExt cx="1752480" cy="4838400"/>
          </a:xfrm>
        </p:grpSpPr>
        <p:sp>
          <p:nvSpPr>
            <p:cNvPr id="135" name=""/>
            <p:cNvSpPr/>
            <p:nvPr/>
          </p:nvSpPr>
          <p:spPr>
            <a:xfrm>
              <a:off x="37800" y="990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715000" y="4915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16887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 u="sng">
                <a:solidFill>
                  <a:srgbClr val="000000"/>
                </a:solidFill>
                <a:uFillTx/>
                <a:latin typeface="Arial"/>
              </a:rPr>
              <a:t>Las revuel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066680"/>
            <a:ext cx="1752480" cy="4762440"/>
            <a:chOff x="0" y="1066680"/>
            <a:chExt cx="1752480" cy="4762440"/>
          </a:xfrm>
        </p:grpSpPr>
        <p:sp>
          <p:nvSpPr>
            <p:cNvPr id="143" name=""/>
            <p:cNvSpPr/>
            <p:nvPr/>
          </p:nvSpPr>
          <p:spPr>
            <a:xfrm>
              <a:off x="378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00" y="2133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Revuel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99000" y="594720"/>
            <a:ext cx="4182480" cy="4586760"/>
            <a:chOff x="999000" y="594720"/>
            <a:chExt cx="4182480" cy="4586760"/>
          </a:xfrm>
        </p:grpSpPr>
        <p:sp>
          <p:nvSpPr>
            <p:cNvPr id="149" name=""/>
            <p:cNvSpPr/>
            <p:nvPr/>
          </p:nvSpPr>
          <p:spPr>
            <a:xfrm>
              <a:off x="2057400" y="3429000"/>
              <a:ext cx="3124080" cy="1752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¿Cuándo?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e diciembre de 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Hasta febrero de 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151600">
              <a:off x="1828440" y="685800"/>
              <a:ext cx="1371600" cy="3276720"/>
            </a:xfrm>
            <a:custGeom>
              <a:avLst/>
              <a:gdLst>
                <a:gd name="textAreaLeft" fmla="*/ 183600 w 1371600"/>
                <a:gd name="textAreaRight" fmla="*/ 1188000 w 1371600"/>
                <a:gd name="textAreaTop" fmla="*/ 591840 h 3276720"/>
                <a:gd name="textAreaBottom" fmla="*/ 2362680 h 32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673"/>
                  </a:lnTo>
                  <a:arcTo wR="21600" hR="7802" stAng="10800000" swAng="-2811669"/>
                  <a:lnTo>
                    <a:pt x="14675" y="21188"/>
                  </a:lnTo>
                  <a:lnTo>
                    <a:pt x="21600" y="17540"/>
                  </a:lnTo>
                  <a:lnTo>
                    <a:pt x="14675" y="13067"/>
                  </a:lnTo>
                  <a:lnTo>
                    <a:pt x="14675" y="15192"/>
                  </a:lnTo>
                  <a:arcTo wR="21600" hR="7802" stAng="7988331" swAng="2494586"/>
                  <a:lnTo>
                    <a:pt x="675" y="9737"/>
                  </a:lnTo>
                  <a:arcTo wR="21600" hR="7802" stAng="-10482918" swAng="5082918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317082"/>
                  <a:lnTo>
                    <a:pt x="675" y="9737"/>
                  </a:lnTo>
                  <a:arcTo wR="21600" hR="7802" stAng="-10482918" swAng="5082918"/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473800" y="1345680"/>
            <a:ext cx="3927600" cy="4464360"/>
            <a:chOff x="5473800" y="1345680"/>
            <a:chExt cx="3927600" cy="4464360"/>
          </a:xfrm>
        </p:grpSpPr>
        <p:sp>
          <p:nvSpPr>
            <p:cNvPr id="152" name=""/>
            <p:cNvSpPr/>
            <p:nvPr/>
          </p:nvSpPr>
          <p:spPr>
            <a:xfrm rot="21554400">
              <a:off x="5486040" y="3885840"/>
              <a:ext cx="28195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¿Quién?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role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a juvent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equeña burgues</a:t>
              </a:r>
              <a:r>
                <a:rPr b="0" lang="he-IL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í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studia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569200">
              <a:off x="7547040" y="1496520"/>
              <a:ext cx="1460520" cy="2886120"/>
            </a:xfrm>
            <a:custGeom>
              <a:avLst/>
              <a:gdLst>
                <a:gd name="textAreaLeft" fmla="*/ 195480 w 1460520"/>
                <a:gd name="textAreaRight" fmla="*/ 1265040 w 1460520"/>
                <a:gd name="textAreaTop" fmla="*/ 498240 h 2886120"/>
                <a:gd name="textAreaBottom" fmla="*/ 206136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461" stAng="-5400000" swAng="5400000"/>
                  <a:lnTo>
                    <a:pt x="21600" y="11696"/>
                  </a:lnTo>
                  <a:arcTo wR="21600" hR="7461" stAng="0" swAng="2916613"/>
                  <a:lnTo>
                    <a:pt x="6290" y="21277"/>
                  </a:lnTo>
                  <a:lnTo>
                    <a:pt x="0" y="17039"/>
                  </a:lnTo>
                  <a:lnTo>
                    <a:pt x="6290" y="12154"/>
                  </a:lnTo>
                  <a:lnTo>
                    <a:pt x="6290" y="14598"/>
                  </a:lnTo>
                  <a:arcTo wR="21600" hR="7461" stAng="2916613" swAng="-2566365"/>
                  <a:lnTo>
                    <a:pt x="20712" y="9578"/>
                  </a:lnTo>
                  <a:arcTo wR="21600" hR="7461" stAng="-350248" swAng="-5049752"/>
                  <a:close/>
                </a:path>
                <a:path fill="darkenLess" w="21600" h="21600">
                  <a:moveTo>
                    <a:pt x="0" y="0"/>
                  </a:moveTo>
                  <a:arcTo wR="21600" hR="7461" stAng="-5400000" swAng="5400000"/>
                  <a:lnTo>
                    <a:pt x="21600" y="11696"/>
                  </a:lnTo>
                  <a:arcTo wR="21600" hR="7461" stAng="0" swAng="-350248"/>
                  <a:lnTo>
                    <a:pt x="20712" y="9578"/>
                  </a:lnTo>
                  <a:arcTo wR="21600" hR="7461" stAng="-350248" swAng="-5049752"/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1066680"/>
            <a:ext cx="1752480" cy="4762440"/>
            <a:chOff x="0" y="1066680"/>
            <a:chExt cx="1752480" cy="4762440"/>
          </a:xfrm>
        </p:grpSpPr>
        <p:sp>
          <p:nvSpPr>
            <p:cNvPr id="155" name=""/>
            <p:cNvSpPr/>
            <p:nvPr/>
          </p:nvSpPr>
          <p:spPr>
            <a:xfrm>
              <a:off x="378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800" y="2133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Revuel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819520" y="685800"/>
            <a:ext cx="50292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¿P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qué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1752480"/>
            <a:ext cx="51814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1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de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orrupci</a:t>
            </a:r>
            <a:r>
              <a:rPr b="0" lang="he-I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s Europ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risis en el capita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universalizaci</a:t>
            </a:r>
            <a:r>
              <a:rPr b="0" lang="he-I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olarizaci</a:t>
            </a:r>
            <a:r>
              <a:rPr b="0" lang="he-I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133720" y="3686040"/>
            <a:ext cx="6609960" cy="2954880"/>
            <a:chOff x="2133720" y="3686040"/>
            <a:chExt cx="6609960" cy="2954880"/>
          </a:xfrm>
        </p:grpSpPr>
        <p:grpSp>
          <p:nvGrpSpPr>
            <p:cNvPr id="163" name=""/>
            <p:cNvGrpSpPr/>
            <p:nvPr/>
          </p:nvGrpSpPr>
          <p:grpSpPr>
            <a:xfrm>
              <a:off x="3582000" y="3686040"/>
              <a:ext cx="5161680" cy="2954880"/>
              <a:chOff x="3582000" y="3686040"/>
              <a:chExt cx="5161680" cy="2954880"/>
            </a:xfrm>
          </p:grpSpPr>
          <p:sp>
            <p:nvSpPr>
              <p:cNvPr id="164" name=""/>
              <p:cNvSpPr/>
              <p:nvPr/>
            </p:nvSpPr>
            <p:spPr>
              <a:xfrm rot="13968600">
                <a:off x="4800240" y="3656520"/>
                <a:ext cx="304920" cy="762120"/>
              </a:xfrm>
              <a:custGeom>
                <a:avLst/>
                <a:gdLst>
                  <a:gd name="textAreaLeft" fmla="*/ 40680 w 304920"/>
                  <a:gd name="textAreaRight" fmla="*/ 264240 w 304920"/>
                  <a:gd name="textAreaTop" fmla="*/ 133200 h 762120"/>
                  <a:gd name="textAreaBottom" fmla="*/ 5526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505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9236400">
                <a:off x="3733560" y="5028480"/>
                <a:ext cx="304560" cy="762120"/>
              </a:xfrm>
              <a:custGeom>
                <a:avLst/>
                <a:gdLst>
                  <a:gd name="textAreaLeft" fmla="*/ 40680 w 304560"/>
                  <a:gd name="textAreaRight" fmla="*/ 263880 w 304560"/>
                  <a:gd name="textAreaTop" fmla="*/ 133200 h 762120"/>
                  <a:gd name="textAreaBottom" fmla="*/ 5526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505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7909800">
                <a:off x="4952160" y="5892120"/>
                <a:ext cx="304920" cy="762120"/>
              </a:xfrm>
              <a:custGeom>
                <a:avLst/>
                <a:gdLst>
                  <a:gd name="textAreaLeft" fmla="*/ 40680 w 304920"/>
                  <a:gd name="textAreaRight" fmla="*/ 264240 w 304920"/>
                  <a:gd name="textAreaTop" fmla="*/ 133200 h 762120"/>
                  <a:gd name="textAreaBottom" fmla="*/ 5526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505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3852000">
                <a:off x="7340400" y="5867280"/>
                <a:ext cx="304560" cy="761760"/>
              </a:xfrm>
              <a:custGeom>
                <a:avLst/>
                <a:gdLst>
                  <a:gd name="textAreaLeft" fmla="*/ 40680 w 304560"/>
                  <a:gd name="textAreaRight" fmla="*/ 263880 w 304560"/>
                  <a:gd name="textAreaTop" fmla="*/ 133200 h 761760"/>
                  <a:gd name="textAreaBottom" fmla="*/ 55224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505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9203000">
                <a:off x="8229240" y="4571640"/>
                <a:ext cx="304920" cy="762120"/>
              </a:xfrm>
              <a:custGeom>
                <a:avLst/>
                <a:gdLst>
                  <a:gd name="textAreaLeft" fmla="*/ 40680 w 304920"/>
                  <a:gd name="textAreaRight" fmla="*/ 264240 w 304920"/>
                  <a:gd name="textAreaTop" fmla="*/ 133200 h 762120"/>
                  <a:gd name="textAreaBottom" fmla="*/ 5526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505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870000">
                <a:off x="7048440" y="3783960"/>
                <a:ext cx="304920" cy="762120"/>
              </a:xfrm>
              <a:custGeom>
                <a:avLst/>
                <a:gdLst>
                  <a:gd name="textAreaLeft" fmla="*/ 40680 w 304920"/>
                  <a:gd name="textAreaRight" fmla="*/ 264240 w 304920"/>
                  <a:gd name="textAreaTop" fmla="*/ 133200 h 762120"/>
                  <a:gd name="textAreaBottom" fmla="*/ 5526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505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62720" y="6045120"/>
                <a:ext cx="1523880" cy="580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Valor del peso disminuy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67080" y="5346360"/>
                <a:ext cx="1828800" cy="580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réstamos en d</a:t>
                </a:r>
                <a:r>
                  <a:rPr b="0" lang="he-IL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ó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lares m</a:t>
                </a:r>
                <a:r>
                  <a:rPr b="0" lang="he-IL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á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s ca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33920" y="4419360"/>
                <a:ext cx="1752480" cy="580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oder adquisitivo disminuy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07240" y="5295600"/>
                <a:ext cx="1752480" cy="580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Demanda en pesos disminuy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34120" y="3809880"/>
                <a:ext cx="14475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Tienen mie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72200" y="4495680"/>
                <a:ext cx="182880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ompran d</a:t>
                </a:r>
                <a:r>
                  <a:rPr b="0" lang="he-IL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ó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la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133720" y="5867280"/>
              <a:ext cx="1904760" cy="762120"/>
            </a:xfrm>
            <a:prstGeom prst="ellipse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¡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s un círcul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vicios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361960" y="2286000"/>
            <a:ext cx="6476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saltos a los super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os movimientos de las cacer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as luchas obr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1066680"/>
            <a:ext cx="1752480" cy="4762440"/>
            <a:chOff x="0" y="1066680"/>
            <a:chExt cx="1752480" cy="4762440"/>
          </a:xfrm>
        </p:grpSpPr>
        <p:sp>
          <p:nvSpPr>
            <p:cNvPr id="179" name=""/>
            <p:cNvSpPr/>
            <p:nvPr/>
          </p:nvSpPr>
          <p:spPr>
            <a:xfrm>
              <a:off x="378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00" y="2133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Revuel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676520" y="63360"/>
            <a:ext cx="74674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¿C</a:t>
            </a:r>
            <a:r>
              <a:rPr b="1" i="1" lang="he-I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pas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ron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esta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 revueltas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486040" y="1295280"/>
            <a:ext cx="3048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saltos a los supermer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41400" y="1295280"/>
            <a:ext cx="7175520" cy="5295960"/>
            <a:chOff x="1841400" y="1295280"/>
            <a:chExt cx="7175520" cy="529596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rcRect l="0" t="5550" r="0" b="0"/>
            <a:stretch/>
          </p:blipFill>
          <p:spPr>
            <a:xfrm>
              <a:off x="2057400" y="1295280"/>
              <a:ext cx="2709720" cy="3048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rcRect l="0" t="0" r="4776" b="0"/>
            <a:stretch/>
          </p:blipFill>
          <p:spPr>
            <a:xfrm>
              <a:off x="1841400" y="4572000"/>
              <a:ext cx="3124440" cy="19130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89" name="movimento des las cacerolas2" descr=""/>
            <p:cNvPicPr/>
            <p:nvPr/>
          </p:nvPicPr>
          <p:blipFill>
            <a:blip r:embed="rId3"/>
            <a:srcRect l="0" t="6000" r="0" b="0"/>
            <a:stretch/>
          </p:blipFill>
          <p:spPr>
            <a:xfrm>
              <a:off x="5130720" y="3997440"/>
              <a:ext cx="3886200" cy="25938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0" y="1066680"/>
            <a:ext cx="1752480" cy="4762440"/>
            <a:chOff x="0" y="1066680"/>
            <a:chExt cx="1752480" cy="4762440"/>
          </a:xfrm>
        </p:grpSpPr>
        <p:sp>
          <p:nvSpPr>
            <p:cNvPr id="191" name=""/>
            <p:cNvSpPr/>
            <p:nvPr/>
          </p:nvSpPr>
          <p:spPr>
            <a:xfrm>
              <a:off x="378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00" y="2133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Revuel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676520" y="63360"/>
            <a:ext cx="74674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¿C</a:t>
            </a:r>
            <a:r>
              <a:rPr b="1" i="1" lang="he-I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pas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ron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esta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 revueltas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249876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os margi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 población sin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os jóvenes pa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24480" y="1676520"/>
            <a:ext cx="27432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Movimientos de las cacer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905120" y="1447920"/>
            <a:ext cx="7029360" cy="5005440"/>
            <a:chOff x="1905120" y="1447920"/>
            <a:chExt cx="7029360" cy="50054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4902120" y="3429000"/>
              <a:ext cx="4032360" cy="3024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1905120" y="1447920"/>
              <a:ext cx="4319640" cy="28796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0" y="1066680"/>
            <a:ext cx="1752480" cy="4762440"/>
            <a:chOff x="0" y="1066680"/>
            <a:chExt cx="1752480" cy="4762440"/>
          </a:xfrm>
        </p:grpSpPr>
        <p:sp>
          <p:nvSpPr>
            <p:cNvPr id="204" name=""/>
            <p:cNvSpPr/>
            <p:nvPr/>
          </p:nvSpPr>
          <p:spPr>
            <a:xfrm>
              <a:off x="378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00" y="2133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Revuel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676520" y="101520"/>
            <a:ext cx="74674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¿C</a:t>
            </a:r>
            <a:r>
              <a:rPr b="1" i="1" lang="he-I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pas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ron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esta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 revueltas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54160"/>
            <a:ext cx="74674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000000"/>
                </a:solidFill>
                <a:latin typeface="Arial"/>
              </a:rPr>
              <a:t>Movimientos de las cacero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05120" y="1295280"/>
            <a:ext cx="7073640" cy="5438880"/>
            <a:chOff x="1905120" y="1295280"/>
            <a:chExt cx="7073640" cy="54388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1905120" y="1295280"/>
              <a:ext cx="2857320" cy="3773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4876920" y="2895480"/>
              <a:ext cx="4101840" cy="38386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0" y="1066680"/>
            <a:ext cx="1752480" cy="4762440"/>
            <a:chOff x="0" y="1066680"/>
            <a:chExt cx="1752480" cy="4762440"/>
          </a:xfrm>
        </p:grpSpPr>
        <p:sp>
          <p:nvSpPr>
            <p:cNvPr id="215" name=""/>
            <p:cNvSpPr/>
            <p:nvPr/>
          </p:nvSpPr>
          <p:spPr>
            <a:xfrm>
              <a:off x="378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00" y="2133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Revuel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334120" y="1295280"/>
            <a:ext cx="33526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s jubi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s pequeños burgu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409720" y="121896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uchas obr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1066680"/>
            <a:ext cx="1752480" cy="4762440"/>
            <a:chOff x="0" y="1066680"/>
            <a:chExt cx="1752480" cy="4762440"/>
          </a:xfrm>
        </p:grpSpPr>
        <p:sp>
          <p:nvSpPr>
            <p:cNvPr id="223" name=""/>
            <p:cNvSpPr/>
            <p:nvPr/>
          </p:nvSpPr>
          <p:spPr>
            <a:xfrm>
              <a:off x="378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" y="2133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Revuel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905120" y="1143000"/>
            <a:ext cx="6933960" cy="5491080"/>
            <a:chOff x="1905120" y="1143000"/>
            <a:chExt cx="6933960" cy="5491080"/>
          </a:xfrm>
        </p:grpSpPr>
        <p:pic>
          <p:nvPicPr>
            <p:cNvPr id="229" name="affrontements" descr=""/>
            <p:cNvPicPr/>
            <p:nvPr/>
          </p:nvPicPr>
          <p:blipFill>
            <a:blip r:embed="rId1"/>
            <a:stretch/>
          </p:blipFill>
          <p:spPr>
            <a:xfrm>
              <a:off x="5257800" y="1981080"/>
              <a:ext cx="3581280" cy="23479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30" name="calljeros%203" descr=""/>
            <p:cNvPicPr/>
            <p:nvPr/>
          </p:nvPicPr>
          <p:blipFill>
            <a:blip r:embed="rId2"/>
            <a:srcRect l="0" t="0" r="0" b="14581"/>
            <a:stretch/>
          </p:blipFill>
          <p:spPr>
            <a:xfrm>
              <a:off x="2327400" y="1143000"/>
              <a:ext cx="2396880" cy="3124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31" name="cavaliers%20dans%20la%20rue" descr=""/>
            <p:cNvPicPr/>
            <p:nvPr/>
          </p:nvPicPr>
          <p:blipFill>
            <a:blip r:embed="rId3"/>
            <a:stretch/>
          </p:blipFill>
          <p:spPr>
            <a:xfrm>
              <a:off x="1905120" y="4419720"/>
              <a:ext cx="3124080" cy="2214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232" name=""/>
          <p:cNvSpPr/>
          <p:nvPr/>
        </p:nvSpPr>
        <p:spPr>
          <a:xfrm>
            <a:off x="1676520" y="63360"/>
            <a:ext cx="74674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¿C</a:t>
            </a:r>
            <a:r>
              <a:rPr b="1" i="1" lang="he-I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pas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ron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esta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 revueltas</a:t>
            </a:r>
            <a:r>
              <a:rPr b="1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800600"/>
            <a:ext cx="33526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 cuerpo de 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s ferrov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3048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 algn="ctr"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as consecu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-101520" y="1066680"/>
            <a:ext cx="2361960" cy="4762440"/>
            <a:chOff x="-101520" y="1066680"/>
            <a:chExt cx="2361960" cy="4762440"/>
          </a:xfrm>
        </p:grpSpPr>
        <p:sp>
          <p:nvSpPr>
            <p:cNvPr id="236" name=""/>
            <p:cNvSpPr/>
            <p:nvPr/>
          </p:nvSpPr>
          <p:spPr>
            <a:xfrm>
              <a:off x="252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2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101520" y="3244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onsecu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2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2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676520" y="220968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ernando de la R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72200" y="198900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34120" y="3886200"/>
            <a:ext cx="1295280" cy="158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244" name=""/>
          <p:cNvGrpSpPr/>
          <p:nvPr/>
        </p:nvGrpSpPr>
        <p:grpSpPr>
          <a:xfrm>
            <a:off x="-101520" y="1066680"/>
            <a:ext cx="2361960" cy="4762440"/>
            <a:chOff x="-101520" y="1066680"/>
            <a:chExt cx="2361960" cy="4762440"/>
          </a:xfrm>
        </p:grpSpPr>
        <p:sp>
          <p:nvSpPr>
            <p:cNvPr id="245" name=""/>
            <p:cNvSpPr/>
            <p:nvPr/>
          </p:nvSpPr>
          <p:spPr>
            <a:xfrm>
              <a:off x="252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2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-101520" y="3244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onsecu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2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76520" y="380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000000"/>
                </a:solidFill>
                <a:latin typeface="Arial"/>
              </a:rPr>
              <a:t>Desde un punto de vista polí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4343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6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amón Pu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5003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31520" indent="-73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El 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1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Las revue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1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1560" indent="-64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uándo empiez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51560" indent="-64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Quién se revuel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51560" indent="-64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or qué el proletario se revuel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51560" indent="-64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omó pasaron estas revuelt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5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Las con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1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1560" indent="-64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esde un punto de vista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51560" indent="-64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esde un punto de vist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51560" indent="-64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esde un punto de vista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5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Hoy, c</a:t>
            </a:r>
            <a:r>
              <a:rPr b="0" i="1" lang="he-I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mo se desarrolla el paí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1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000000"/>
                </a:solidFill>
                <a:latin typeface="Arial"/>
              </a:rPr>
              <a:t>Desde un punto de vista polí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olfo Rodr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guez Sa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duardo Camaño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295280" cy="158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156360" y="4076640"/>
            <a:ext cx="1295280" cy="158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256" name=""/>
          <p:cNvGrpSpPr/>
          <p:nvPr/>
        </p:nvGrpSpPr>
        <p:grpSpPr>
          <a:xfrm>
            <a:off x="-101520" y="1066680"/>
            <a:ext cx="2361960" cy="4762440"/>
            <a:chOff x="-101520" y="1066680"/>
            <a:chExt cx="2361960" cy="4762440"/>
          </a:xfrm>
        </p:grpSpPr>
        <p:sp>
          <p:nvSpPr>
            <p:cNvPr id="257" name=""/>
            <p:cNvSpPr/>
            <p:nvPr/>
          </p:nvSpPr>
          <p:spPr>
            <a:xfrm>
              <a:off x="252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2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101520" y="3244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onsecu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2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000000"/>
                </a:solidFill>
                <a:latin typeface="Arial"/>
              </a:rPr>
              <a:t>Desde un punto de vista polí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duardo Duhal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é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 Kirch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1511640" cy="201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724360" y="4292640"/>
            <a:ext cx="1511640" cy="223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266" name=""/>
          <p:cNvGrpSpPr/>
          <p:nvPr/>
        </p:nvGrpSpPr>
        <p:grpSpPr>
          <a:xfrm>
            <a:off x="-101520" y="1066680"/>
            <a:ext cx="2361960" cy="4762440"/>
            <a:chOff x="-101520" y="1066680"/>
            <a:chExt cx="2361960" cy="4762440"/>
          </a:xfrm>
        </p:grpSpPr>
        <p:sp>
          <p:nvSpPr>
            <p:cNvPr id="267" name=""/>
            <p:cNvSpPr/>
            <p:nvPr/>
          </p:nvSpPr>
          <p:spPr>
            <a:xfrm>
              <a:off x="252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2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101520" y="3244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onsecu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2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2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857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000000"/>
                </a:solidFill>
                <a:latin typeface="Arial"/>
              </a:rPr>
              <a:t>Desde un punto de vista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-101520" y="1066680"/>
            <a:ext cx="2361960" cy="4762440"/>
            <a:chOff x="-101520" y="1066680"/>
            <a:chExt cx="2361960" cy="4762440"/>
          </a:xfrm>
        </p:grpSpPr>
        <p:sp>
          <p:nvSpPr>
            <p:cNvPr id="274" name=""/>
            <p:cNvSpPr/>
            <p:nvPr/>
          </p:nvSpPr>
          <p:spPr>
            <a:xfrm>
              <a:off x="252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2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101520" y="3244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onsecu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2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2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800" spc="-1" strike="noStrike">
                <a:solidFill>
                  <a:srgbClr val="000000"/>
                </a:solidFill>
                <a:latin typeface="Arial"/>
              </a:rPr>
              <a:t>Desde un punto de vista econ</a:t>
            </a:r>
            <a:r>
              <a:rPr b="0" i="1" lang="he-IL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i="1" lang="fr-BE" sz="3800" spc="-1" strike="noStrike">
                <a:solidFill>
                  <a:srgbClr val="000000"/>
                </a:solidFill>
                <a:latin typeface="Arial"/>
              </a:rPr>
              <a:t>m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-101520" y="1066680"/>
            <a:ext cx="2361960" cy="4762440"/>
            <a:chOff x="-101520" y="1066680"/>
            <a:chExt cx="2361960" cy="4762440"/>
          </a:xfrm>
        </p:grpSpPr>
        <p:sp>
          <p:nvSpPr>
            <p:cNvPr id="281" name=""/>
            <p:cNvSpPr/>
            <p:nvPr/>
          </p:nvSpPr>
          <p:spPr>
            <a:xfrm>
              <a:off x="25200" y="10666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101520" y="3244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onsecu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2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2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52480" y="21333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d de true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727280" y="3594240"/>
            <a:ext cx="3454200" cy="3187440"/>
            <a:chOff x="1727280" y="3594240"/>
            <a:chExt cx="3454200" cy="3187440"/>
          </a:xfrm>
        </p:grpSpPr>
        <p:pic>
          <p:nvPicPr>
            <p:cNvPr id="288" name="trueque4" descr=""/>
            <p:cNvPicPr/>
            <p:nvPr/>
          </p:nvPicPr>
          <p:blipFill>
            <a:blip r:embed="rId1"/>
            <a:stretch/>
          </p:blipFill>
          <p:spPr>
            <a:xfrm>
              <a:off x="1727280" y="3594240"/>
              <a:ext cx="2539800" cy="18921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89" name="trueque1" descr=""/>
            <p:cNvPicPr/>
            <p:nvPr/>
          </p:nvPicPr>
          <p:blipFill>
            <a:blip r:embed="rId2"/>
            <a:srcRect l="5006" t="3982" r="0" b="8591"/>
            <a:stretch/>
          </p:blipFill>
          <p:spPr>
            <a:xfrm>
              <a:off x="2286000" y="5105520"/>
              <a:ext cx="2895480" cy="16761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4978440" y="1447920"/>
            <a:ext cx="4114800" cy="4038480"/>
            <a:chOff x="4978440" y="1447920"/>
            <a:chExt cx="4114800" cy="4038480"/>
          </a:xfrm>
        </p:grpSpPr>
        <p:pic>
          <p:nvPicPr>
            <p:cNvPr id="291" name="trueque3" descr=""/>
            <p:cNvPicPr/>
            <p:nvPr/>
          </p:nvPicPr>
          <p:blipFill>
            <a:blip r:embed="rId3"/>
            <a:stretch/>
          </p:blipFill>
          <p:spPr>
            <a:xfrm>
              <a:off x="7209000" y="2971800"/>
              <a:ext cx="1884240" cy="25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92" name="trueque2" descr=""/>
            <p:cNvPicPr/>
            <p:nvPr/>
          </p:nvPicPr>
          <p:blipFill>
            <a:blip r:embed="rId4"/>
            <a:stretch/>
          </p:blipFill>
          <p:spPr>
            <a:xfrm>
              <a:off x="4978440" y="1447920"/>
              <a:ext cx="2400480" cy="32004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293" name=""/>
          <p:cNvSpPr/>
          <p:nvPr/>
        </p:nvSpPr>
        <p:spPr>
          <a:xfrm>
            <a:off x="5791320" y="5715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 cre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857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¿Hoy, cóm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he-I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se desarrolla el país?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60" y="1066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60" y="2133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Revue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8160" y="3244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560" y="4343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560" y="5460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15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560" y="1066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" y="2133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Revue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50760" y="3244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560" y="4343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4608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2900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bitraje in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clipsar el problema de la deuda ex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7120" y="177804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Arial"/>
              </a:rPr>
              <a:t>Gracias para vuestra atenci</a:t>
            </a:r>
            <a:r>
              <a:rPr b="0" i="1" lang="he-IL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i="1" lang="fr-FR" sz="6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560" y="1066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60" y="2133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Revue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38160" y="3244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60" y="4343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460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b2b2"/>
                </a:solidFill>
                <a:latin typeface="Arial"/>
              </a:rPr>
              <a:t>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1976, Vid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3352680" cy="265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3311280" cy="41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57" name=""/>
          <p:cNvGrpSpPr/>
          <p:nvPr/>
        </p:nvGrpSpPr>
        <p:grpSpPr>
          <a:xfrm>
            <a:off x="-38160" y="990720"/>
            <a:ext cx="1752840" cy="4838400"/>
            <a:chOff x="-38160" y="990720"/>
            <a:chExt cx="1752840" cy="4838400"/>
          </a:xfrm>
        </p:grpSpPr>
        <p:sp>
          <p:nvSpPr>
            <p:cNvPr id="58" name=""/>
            <p:cNvSpPr/>
            <p:nvPr/>
          </p:nvSpPr>
          <p:spPr>
            <a:xfrm>
              <a:off x="0" y="990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1337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-38160" y="32446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43434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546084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 u="sng">
                <a:solidFill>
                  <a:srgbClr val="000000"/>
                </a:solidFill>
                <a:uFillTx/>
                <a:latin typeface="Arial"/>
              </a:rPr>
              <a:t>Corru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4120" y="313704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 u="sng">
                <a:solidFill>
                  <a:srgbClr val="000000"/>
                </a:solidFill>
                <a:uFillTx/>
                <a:latin typeface="Arial"/>
              </a:rPr>
              <a:t>Malvers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98600" y="2133720"/>
            <a:ext cx="2273400" cy="2971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3121200" cy="2109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105520" y="533520"/>
            <a:ext cx="3238560" cy="226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68" name=""/>
          <p:cNvGrpSpPr/>
          <p:nvPr/>
        </p:nvGrpSpPr>
        <p:grpSpPr>
          <a:xfrm>
            <a:off x="0" y="990720"/>
            <a:ext cx="1752480" cy="4838400"/>
            <a:chOff x="0" y="990720"/>
            <a:chExt cx="1752480" cy="4838400"/>
          </a:xfrm>
        </p:grpSpPr>
        <p:sp>
          <p:nvSpPr>
            <p:cNvPr id="69" name=""/>
            <p:cNvSpPr/>
            <p:nvPr/>
          </p:nvSpPr>
          <p:spPr>
            <a:xfrm>
              <a:off x="37800" y="990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8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1983, Ra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 Alfon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3672000" cy="273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638680" y="1701720"/>
            <a:ext cx="3303720" cy="441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0" y="990720"/>
            <a:ext cx="1752480" cy="4838400"/>
            <a:chOff x="0" y="990720"/>
            <a:chExt cx="1752480" cy="4838400"/>
          </a:xfrm>
        </p:grpSpPr>
        <p:sp>
          <p:nvSpPr>
            <p:cNvPr id="78" name=""/>
            <p:cNvSpPr/>
            <p:nvPr/>
          </p:nvSpPr>
          <p:spPr>
            <a:xfrm>
              <a:off x="37800" y="990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1989, Carlos Men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316728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2"/>
          <a:srcRect l="4092" t="1781" r="20139" b="1781"/>
          <a:stretch/>
        </p:blipFill>
        <p:spPr>
          <a:xfrm>
            <a:off x="5867280" y="1828800"/>
            <a:ext cx="2976840" cy="4343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87" name=""/>
          <p:cNvGrpSpPr/>
          <p:nvPr/>
        </p:nvGrpSpPr>
        <p:grpSpPr>
          <a:xfrm>
            <a:off x="0" y="990720"/>
            <a:ext cx="1752480" cy="4838400"/>
            <a:chOff x="0" y="990720"/>
            <a:chExt cx="1752480" cy="4838400"/>
          </a:xfrm>
        </p:grpSpPr>
        <p:sp>
          <p:nvSpPr>
            <p:cNvPr id="88" name=""/>
            <p:cNvSpPr/>
            <p:nvPr/>
          </p:nvSpPr>
          <p:spPr>
            <a:xfrm>
              <a:off x="37800" y="990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l p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2879640" cy="10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2879640" cy="1177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59600" y="2349360"/>
            <a:ext cx="2895480" cy="1254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140360" y="2984400"/>
            <a:ext cx="2879640" cy="125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860480" y="4368960"/>
            <a:ext cx="2635200" cy="123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278400" y="4343400"/>
            <a:ext cx="2738520" cy="126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025880" y="5683320"/>
            <a:ext cx="2743200" cy="117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01" name=""/>
          <p:cNvGrpSpPr/>
          <p:nvPr/>
        </p:nvGrpSpPr>
        <p:grpSpPr>
          <a:xfrm>
            <a:off x="0" y="990720"/>
            <a:ext cx="1752480" cy="4838400"/>
            <a:chOff x="0" y="990720"/>
            <a:chExt cx="1752480" cy="4838400"/>
          </a:xfrm>
        </p:grpSpPr>
        <p:sp>
          <p:nvSpPr>
            <p:cNvPr id="102" name=""/>
            <p:cNvSpPr/>
            <p:nvPr/>
          </p:nvSpPr>
          <p:spPr>
            <a:xfrm>
              <a:off x="37800" y="990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8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1%20centavo" descr=""/>
          <p:cNvPicPr/>
          <p:nvPr/>
        </p:nvPicPr>
        <p:blipFill>
          <a:blip r:embed="rId8"/>
          <a:stretch/>
        </p:blipFill>
        <p:spPr>
          <a:xfrm>
            <a:off x="4800600" y="4368960"/>
            <a:ext cx="1112760" cy="1218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8" name="escudo%20y%20entorchas" descr=""/>
          <p:cNvPicPr/>
          <p:nvPr/>
        </p:nvPicPr>
        <p:blipFill>
          <a:blip r:embed="rId9"/>
          <a:stretch/>
        </p:blipFill>
        <p:spPr>
          <a:xfrm>
            <a:off x="7429680" y="12600"/>
            <a:ext cx="1707840" cy="175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9" name="peso%201" descr=""/>
          <p:cNvPicPr/>
          <p:nvPr/>
        </p:nvPicPr>
        <p:blipFill>
          <a:blip r:embed="rId10"/>
          <a:stretch/>
        </p:blipFill>
        <p:spPr>
          <a:xfrm>
            <a:off x="1689120" y="12600"/>
            <a:ext cx="1684440" cy="165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1999, Fernando de la R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54520" cy="42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273852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990720"/>
            <a:ext cx="1752480" cy="4838400"/>
            <a:chOff x="0" y="990720"/>
            <a:chExt cx="1752480" cy="4838400"/>
          </a:xfrm>
        </p:grpSpPr>
        <p:sp>
          <p:nvSpPr>
            <p:cNvPr id="114" name=""/>
            <p:cNvSpPr/>
            <p:nvPr/>
          </p:nvSpPr>
          <p:spPr>
            <a:xfrm>
              <a:off x="37800" y="990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3120840" cy="225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91320" y="1359000"/>
            <a:ext cx="3162240" cy="229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505320" y="3809880"/>
            <a:ext cx="3809880" cy="285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24" name=""/>
          <p:cNvGrpSpPr/>
          <p:nvPr/>
        </p:nvGrpSpPr>
        <p:grpSpPr>
          <a:xfrm>
            <a:off x="0" y="990720"/>
            <a:ext cx="1752480" cy="4838400"/>
            <a:chOff x="0" y="990720"/>
            <a:chExt cx="1752480" cy="4838400"/>
          </a:xfrm>
        </p:grpSpPr>
        <p:sp>
          <p:nvSpPr>
            <p:cNvPr id="125" name=""/>
            <p:cNvSpPr/>
            <p:nvPr/>
          </p:nvSpPr>
          <p:spPr>
            <a:xfrm>
              <a:off x="37800" y="990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800" y="21337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Revuel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3244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800" y="4343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H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800" y="54608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b2b2b2"/>
                  </a:solidFill>
                  <a:latin typeface="Arial"/>
                </a:rPr>
                <a:t>Sol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8:53:18Z</dcterms:created>
  <dc:creator>Cecile</dc:creator>
  <dc:description/>
  <dc:language>en-US</dc:language>
  <cp:lastModifiedBy>Perrine TESSIER</cp:lastModifiedBy>
  <dcterms:modified xsi:type="dcterms:W3CDTF">2007-04-04T07:25:00Z</dcterms:modified>
  <cp:revision>21</cp:revision>
  <dc:subject/>
  <dc:title>Las revueltas populares en Argentina</dc:title>
</cp:coreProperties>
</file>